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D0C-24F5-42E6-8954-1FD72C13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251-76C8-4431-994A-5222785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3D3B7-5198-44C7-9E10-C47EE5CE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E0648-44CF-45C5-93CB-59819E4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6FFB7-516A-4B25-8E61-8AF9F80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5D6C8-5FEB-452D-B91F-D8A9EA5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C9E4D-D623-4A7E-ABD0-BE2AE0B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09F98-9BB9-4345-912D-4B2D666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08B24-700B-4ED8-8560-431DCF9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4780E-5A23-43E2-80D0-E088FCFC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B3624-BAD3-4CB9-8805-C2F6F99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698F9-3AB1-497A-A962-D92B5BDA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66B-2B4A-4840-9BF3-1E6A4A6E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3E19F-B221-427D-A7B3-17B732A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51E65-79C0-484F-AACB-6FD2BC7C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6065F-3ED8-4493-BEB7-9AD2360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F4D75-249B-48D1-AD2B-60C2116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EF572-59B2-49BC-B916-B07EE7A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73A0-63C4-4220-9643-0D1AF8D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1B32-15DA-4934-A475-9C7FC88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79371-C3CC-474E-A2A5-C5ADBA8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F8FC5-CDE6-422C-BB47-CC05177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7BAE-F708-45EB-A08D-AAEDEBE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35F-64A5-4832-ABD0-658C25C4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12BD2-6D53-4EB2-A46C-679CB90C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E821-607B-46B9-AF3C-26B835D8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16DA8-42E7-471B-A192-21D245C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F654D-93F1-4899-9063-B1C531A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6C494-2513-4CDA-A272-481ED98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085F0-41CA-4C8D-8196-70E4F3C6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80B89-5759-4FF5-A396-5BBE5629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CA17-C1C1-40DF-8B0E-AC2BEE3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9074-7088-4FB9-9FB8-2E63BEB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466D-022D-4FC3-92AB-A1D7795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D775-7BEA-4376-BE71-227BFA3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7626-5586-4342-9513-34490DA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A1A9-8DC1-4AF4-ADC3-C6327E51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56B0E-F4EE-4590-8C8D-2438F0FB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37F9D-7D8B-4D0A-9E86-708294C1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1F179-AAE7-40EC-BE81-7BCD675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12EE-318A-4294-915A-A235FA9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C40FF-3F4C-4044-8F7C-C0B680F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F69B3-45B1-4C8C-BAE7-065C2411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0958D-8CA0-4121-999D-654BF4B2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25ECF-8A94-430A-8B13-685A50F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C1E-D370-4F70-AAED-AE8ECD0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739C3-532C-4F55-A7CC-9EA101C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86134-44CD-40FC-8EFA-63FB60B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A26F8-289A-4DAC-B5D8-4B630BE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80296-0BB8-4AA8-BA3C-FEEF4A5F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C529C-5376-4CA1-B574-3D8A307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F55-32BA-4AA8-8285-324E1FA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AA85-7ACD-47A3-B1EA-EB4BCBF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925-D91B-4587-86F3-08AB646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03D0-CBEE-4BAA-A613-F7938EBD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C1C8-E13C-4F9B-9C44-5940C1B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5AF-37BF-4F8B-B710-FD6282E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F1B-BCA6-4508-B069-8AEE8BB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E4B-3886-4EA9-8D08-40A3BC7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5E6-3384-4DD3-B4D7-62402A3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550-AAFE-420D-9065-DAF7E8D7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9C4-A8AE-416B-A1EF-5118782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EC46-1645-4242-B91F-BF67F51C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024D-8179-4AF9-B3D6-3296D022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3B93-3A45-4875-9F66-2636083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6431-4176-4320-A6F3-9EC8D0B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67BF-DEE3-4AA4-8A95-F4576C8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E6F-2BD6-4A6C-A1FF-CB67B79F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CFC8-7600-45AB-945E-067E4E6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F663-BEEA-442D-BA35-247DCF8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05E6-3FB1-47BC-A614-0D93D73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C1CD-6DB9-4720-AF79-BE0C85A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0C67-77A4-4BB8-AB7F-FC51023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9A1D-2BE2-4EAC-B77B-E0595AAC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A397-BB6A-488C-9133-6033E1BD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AFFF-B8EC-446A-A512-76AFA7C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75B4-B5F7-497C-898A-A1B49A1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A14F-5C15-4A3E-9FC1-65C04B7D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197-EB49-4B23-B456-EEDFDA6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08ED-80FB-4B0B-8012-89FB2C7F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28B8-C08C-4232-89BF-1FB7DAA6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0E50-4612-457A-98BA-276FD7AF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EE5A-742D-4ED9-B416-1A523C5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C27D-E411-45C2-A058-9476DF9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FD7A-BA03-4D95-AB68-4753C60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A84F-D79A-4DE1-B40F-3CA0D88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F1B6-2DE6-4472-88E0-AD0EE41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0D7E-1C98-4740-A70C-D19F916F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580C-65AF-4CD2-963A-9EF11D63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C6D-1E85-4ABF-BCCD-A77CFEE9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4F63-D08E-429B-804C-48BC818B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A736-498C-42B7-98F5-8FD2F32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B4D2-FB48-448F-A671-D083B24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B0BF-B752-47C2-BDF4-F351DB1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F0B4-8ACD-470F-96C0-311F068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3B86-1F3F-4B3D-8682-BF1B4AC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8167-993D-4A91-AF73-93493FD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28BF-6367-4B3A-AA7C-DB37DB0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FF93-B9E1-4F9F-8961-6ECFB2F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D35E-1D48-474A-99B4-BFAD77D6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A7D-F3B6-4AE9-B2B4-50332D8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25BE8-5576-4077-B6D2-E13AA8D5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3E21-2C6B-4F5B-959E-2B31F20A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F229-4253-487D-AD6D-0714830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67C8-617C-486D-B07A-2FA5242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6526-64F8-46FD-BFB7-8C2D850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6BC8-8B27-4962-B153-7752158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21B13-5080-43C3-9115-B7579A1F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E51EE-3068-4B8C-A544-5B918E0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E61D-5E94-4814-83E5-C45A1DF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F970-4FB6-4052-97E6-4470B55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F74-4AF7-4E81-987A-623E932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3E57-2871-414B-A33D-D36E468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B96E-5654-4248-A169-A0895EC4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DB0A-021D-4024-8D67-41D12F8D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F68E-00EE-4DF8-B558-D78805C9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41C2-EEE6-4984-9B97-5BF90727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3130-6BF3-4CD7-A3ED-98ED18D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A3A3-FDD9-44AE-BEEF-C5FD62C7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0D3D-240C-4B6C-B231-E9CE8C57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F5B1-120A-4C1E-AEB3-A1349DF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0495-C4E6-404F-80FB-757C305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B45-273C-480E-847D-1F96459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D321-126A-4328-AAA3-2A5CE6D7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444BD-5012-4959-91BB-76D27B1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B808-6588-44D9-9DFB-319E3B4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A283-FC63-4F65-9FF8-516DC958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E143-F448-480B-B4FE-A9BAD9F6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7554-2996-4E86-B24B-6A75435C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9D75-9C4F-4334-82B2-7BF4DFB3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855B-5410-4F12-9F96-5A0A891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04F9-9F18-4870-8873-30589AB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5B23-B257-4EFE-826F-38A13B60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1E4-5879-4125-830C-4D32C529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04B0-4BF8-4714-A237-095C0B58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6F14-9B8E-4F0B-91DB-07D112C6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FB159-D18E-407F-BFE0-E8572150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80B6-69F2-4942-B314-F071BF9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E7B9-45A0-4907-A30C-8D15DD4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D576-FB60-44AD-8058-86B950D3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FBEF1-9C3C-4926-B6AA-2FB98DA0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61530-FA6C-4731-9155-FAB6A87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97614-76C5-4910-9EC0-C68FE903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18B89-2D8A-492A-AC89-633ABB9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945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945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1945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1946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1946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1946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1946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B76-EBDD-4082-AD43-F71AA2F8DAC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E4C-674E-4290-BD27-495478D7D5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4E5-25AE-42DF-9478-AAF13BA56C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8E14-50E1-46A4-809F-6A9C1555AD6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048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048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048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048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048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048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048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532-4B87-4161-B08B-875DCB2E588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2256-2D4C-41A3-8D9A-1C6B041E54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17B-0B4E-4845-9725-A731ABE3C0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E03-12E0-4D52-8DAB-906E3F469F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110C-0FCC-4095-BAC2-6FAF21F6DC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B68-5749-4A41-855A-A4BBA961C6C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37D-2CC8-46C8-A12E-93923CB7F2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25E8-C2B0-4A52-A0C8-B3208E51C9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" descr=""/>
          <p:cNvPicPr/>
          <p:nvPr/>
        </p:nvPicPr>
        <p:blipFill>
          <a:blip r:embed="rId1"/>
          <a:stretch/>
        </p:blipFill>
        <p:spPr>
          <a:xfrm>
            <a:off x="2552760" y="1741320"/>
            <a:ext cx="6591240" cy="493740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3"/>
          <p:cNvSpPr/>
          <p:nvPr/>
        </p:nvSpPr>
        <p:spPr>
          <a:xfrm>
            <a:off x="2432160" y="471600"/>
            <a:ext cx="59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ff00"/>
                </a:solidFill>
                <a:uFillTx/>
                <a:latin typeface="新宋体"/>
                <a:ea typeface="新宋体"/>
              </a:rPr>
              <a:t>金木水火土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8" name="图片 12" descr=""/>
          <p:cNvPicPr/>
          <p:nvPr/>
        </p:nvPicPr>
        <p:blipFill>
          <a:blip r:embed="rId2"/>
          <a:stretch/>
        </p:blipFill>
        <p:spPr>
          <a:xfrm>
            <a:off x="30240" y="1989000"/>
            <a:ext cx="2670120" cy="38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1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824720" cy="482436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7"/>
          <p:cNvSpPr/>
          <p:nvPr/>
        </p:nvSpPr>
        <p:spPr>
          <a:xfrm>
            <a:off x="1619280" y="333360"/>
            <a:ext cx="58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同学们，你们知道这是什么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文本框 9"/>
          <p:cNvSpPr/>
          <p:nvPr/>
        </p:nvSpPr>
        <p:spPr>
          <a:xfrm>
            <a:off x="7093080" y="31478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五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心形 3"/>
          <p:cNvSpPr/>
          <p:nvPr/>
        </p:nvSpPr>
        <p:spPr>
          <a:xfrm>
            <a:off x="888840" y="146160"/>
            <a:ext cx="812880" cy="768240"/>
          </a:xfrm>
          <a:prstGeom prst="pi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新宋体"/>
                <a:ea typeface="新宋体"/>
              </a:rPr>
              <a:t>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心形 4"/>
          <p:cNvSpPr/>
          <p:nvPr/>
        </p:nvSpPr>
        <p:spPr>
          <a:xfrm>
            <a:off x="1619280" y="-6480"/>
            <a:ext cx="938160" cy="920880"/>
          </a:xfrm>
          <a:prstGeom prst="pi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f6228"/>
                </a:solidFill>
                <a:uFillTx/>
                <a:latin typeface="华文楷体"/>
                <a:ea typeface="华文楷体"/>
              </a:rPr>
              <a:t>一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心形 5"/>
          <p:cNvSpPr/>
          <p:nvPr/>
        </p:nvSpPr>
        <p:spPr>
          <a:xfrm>
            <a:off x="2557440" y="-255600"/>
            <a:ext cx="2158920" cy="1260360"/>
          </a:xfrm>
          <a:prstGeom prst="pi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3" descr="http://www.61baobao.com/common/flash/2013/8/dpic/09.jpg"/>
          <p:cNvPicPr/>
          <p:nvPr/>
        </p:nvPicPr>
        <p:blipFill>
          <a:blip r:embed="rId1"/>
          <a:stretch/>
        </p:blipFill>
        <p:spPr>
          <a:xfrm>
            <a:off x="-38160" y="1841400"/>
            <a:ext cx="9144000" cy="53136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2484360" y="1272240"/>
            <a:ext cx="45356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yī    èr   sān   sì  w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二三四五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http://cdnweb.b5m.com/web/cmsphp/article/201506/afa5da38d4823f4d79be8c0cb29cd558.jpg"/>
          <p:cNvPicPr/>
          <p:nvPr/>
        </p:nvPicPr>
        <p:blipFill>
          <a:blip r:embed="rId1"/>
          <a:stretch/>
        </p:blipFill>
        <p:spPr>
          <a:xfrm>
            <a:off x="1452600" y="907920"/>
            <a:ext cx="7691400" cy="60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pic.wenwo.com/fimg/7130178789_516.jpg"/>
          <p:cNvPicPr/>
          <p:nvPr/>
        </p:nvPicPr>
        <p:blipFill>
          <a:blip r:embed="rId1"/>
          <a:stretch/>
        </p:blipFill>
        <p:spPr>
          <a:xfrm>
            <a:off x="1693800" y="189000"/>
            <a:ext cx="5437080" cy="1496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http://h.hiphotos.baidu.com/zhidao/pic/item/a686c9177f3e6709e698fea23bc79f3df9dc55d6.jpg"/>
          <p:cNvPicPr/>
          <p:nvPr/>
        </p:nvPicPr>
        <p:blipFill>
          <a:blip r:embed="rId2"/>
          <a:stretch/>
        </p:blipFill>
        <p:spPr>
          <a:xfrm>
            <a:off x="1746360" y="2060640"/>
            <a:ext cx="5384520" cy="1800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1835280" y="4084200"/>
            <a:ext cx="5295600" cy="167868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īn    mù       shuǐ     huǒ    t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金木 水 火土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下箭头 2"/>
          <p:cNvSpPr/>
          <p:nvPr/>
        </p:nvSpPr>
        <p:spPr>
          <a:xfrm>
            <a:off x="4284720" y="1685880"/>
            <a:ext cx="287280" cy="374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下箭头 5"/>
          <p:cNvSpPr/>
          <p:nvPr/>
        </p:nvSpPr>
        <p:spPr>
          <a:xfrm>
            <a:off x="4340160" y="3673440"/>
            <a:ext cx="287280" cy="374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" descr=""/>
          <p:cNvPicPr/>
          <p:nvPr/>
        </p:nvPicPr>
        <p:blipFill>
          <a:blip r:embed="rId1"/>
          <a:stretch/>
        </p:blipFill>
        <p:spPr>
          <a:xfrm>
            <a:off x="2055960" y="1398600"/>
            <a:ext cx="7122960" cy="57024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"/>
          <p:cNvSpPr/>
          <p:nvPr/>
        </p:nvSpPr>
        <p:spPr>
          <a:xfrm>
            <a:off x="2195640" y="1766520"/>
            <a:ext cx="5905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iān  dì fēn sh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à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g xi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à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天地分上下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3"/>
          <p:cNvSpPr/>
          <p:nvPr/>
        </p:nvSpPr>
        <p:spPr>
          <a:xfrm>
            <a:off x="1008000" y="117792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天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4"/>
          <p:cNvSpPr/>
          <p:nvPr/>
        </p:nvSpPr>
        <p:spPr>
          <a:xfrm>
            <a:off x="7236000" y="909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上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5"/>
          <p:cNvSpPr/>
          <p:nvPr/>
        </p:nvSpPr>
        <p:spPr>
          <a:xfrm>
            <a:off x="7095960" y="59436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下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文本框 6"/>
          <p:cNvSpPr/>
          <p:nvPr/>
        </p:nvSpPr>
        <p:spPr>
          <a:xfrm>
            <a:off x="1403280" y="6019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地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上下箭头 10"/>
          <p:cNvSpPr/>
          <p:nvPr/>
        </p:nvSpPr>
        <p:spPr>
          <a:xfrm>
            <a:off x="1403280" y="2332080"/>
            <a:ext cx="504720" cy="378144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上下箭头 11"/>
          <p:cNvSpPr/>
          <p:nvPr/>
        </p:nvSpPr>
        <p:spPr>
          <a:xfrm>
            <a:off x="7419960" y="1925640"/>
            <a:ext cx="684360" cy="4200480"/>
          </a:xfrm>
          <a:prstGeom prst="upDownArrow">
            <a:avLst>
              <a:gd name="adj1" fmla="val 50000"/>
              <a:gd name="adj2" fmla="val 49983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2133360" y="-23040"/>
            <a:ext cx="50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ì yuè zhào gǔ jīn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日月 照 古 今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2" name="图片 2" descr=""/>
          <p:cNvPicPr/>
          <p:nvPr/>
        </p:nvPicPr>
        <p:blipFill>
          <a:blip r:embed="rId1"/>
          <a:stretch/>
        </p:blipFill>
        <p:spPr>
          <a:xfrm>
            <a:off x="2387520" y="1892160"/>
            <a:ext cx="2255760" cy="214488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3" descr=""/>
          <p:cNvPicPr/>
          <p:nvPr/>
        </p:nvPicPr>
        <p:blipFill>
          <a:blip r:embed="rId2"/>
          <a:stretch/>
        </p:blipFill>
        <p:spPr>
          <a:xfrm>
            <a:off x="331920" y="1889280"/>
            <a:ext cx="2178000" cy="215244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4" descr=""/>
          <p:cNvPicPr/>
          <p:nvPr/>
        </p:nvPicPr>
        <p:blipFill>
          <a:blip r:embed="rId3"/>
          <a:stretch/>
        </p:blipFill>
        <p:spPr>
          <a:xfrm>
            <a:off x="5397480" y="1855800"/>
            <a:ext cx="1687680" cy="21448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" descr=""/>
          <p:cNvPicPr/>
          <p:nvPr/>
        </p:nvPicPr>
        <p:blipFill>
          <a:blip r:embed="rId4"/>
          <a:stretch/>
        </p:blipFill>
        <p:spPr>
          <a:xfrm>
            <a:off x="7085160" y="1863720"/>
            <a:ext cx="1608120" cy="211140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6"/>
          <p:cNvSpPr/>
          <p:nvPr/>
        </p:nvSpPr>
        <p:spPr>
          <a:xfrm>
            <a:off x="2973240" y="401940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月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19000" y="3975120"/>
            <a:ext cx="10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8"/>
          <p:cNvSpPr/>
          <p:nvPr/>
        </p:nvSpPr>
        <p:spPr>
          <a:xfrm>
            <a:off x="7529400" y="407664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今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9"/>
          <p:cNvSpPr/>
          <p:nvPr/>
        </p:nvSpPr>
        <p:spPr>
          <a:xfrm>
            <a:off x="5364000" y="411156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古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左右箭头 10"/>
          <p:cNvSpPr/>
          <p:nvPr/>
        </p:nvSpPr>
        <p:spPr>
          <a:xfrm>
            <a:off x="1922400" y="4521240"/>
            <a:ext cx="1297080" cy="43488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左右箭头 13"/>
          <p:cNvSpPr/>
          <p:nvPr/>
        </p:nvSpPr>
        <p:spPr>
          <a:xfrm>
            <a:off x="6443640" y="4521240"/>
            <a:ext cx="1224000" cy="43488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846000" y="339840"/>
            <a:ext cx="1756080" cy="143172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2"/>
          <p:cNvSpPr/>
          <p:nvPr/>
        </p:nvSpPr>
        <p:spPr>
          <a:xfrm>
            <a:off x="1619280" y="-8748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读一读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276720" y="1668240"/>
            <a:ext cx="395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yī   èr  sān  sì  wǔ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二三四五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3276720" y="2560680"/>
            <a:ext cx="529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īn mù shuǐ huǒ t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金木 水 火土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3292560" y="3530880"/>
            <a:ext cx="5905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iān  dì  fēn sh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à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g xi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à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天地分上下，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3648600" y="4440600"/>
            <a:ext cx="219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ì yuè zhào gǔ jīn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日月 照 古 今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上凸带形 8"/>
          <p:cNvSpPr/>
          <p:nvPr/>
        </p:nvSpPr>
        <p:spPr>
          <a:xfrm>
            <a:off x="1908000" y="666720"/>
            <a:ext cx="5480280" cy="892080"/>
          </a:xfrm>
          <a:custGeom>
            <a:avLst/>
            <a:gdLst>
              <a:gd name="textAreaLeft" fmla="*/ 1370160 w 5480280"/>
              <a:gd name="textAreaRight" fmla="*/ 4110480 w 5480280"/>
              <a:gd name="textAreaTop" fmla="*/ 0 h 892080"/>
              <a:gd name="textAreaBottom" fmla="*/ 743400 h 8920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9"/>
          <p:cNvSpPr/>
          <p:nvPr/>
        </p:nvSpPr>
        <p:spPr>
          <a:xfrm>
            <a:off x="3297240" y="428760"/>
            <a:ext cx="47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īn mù shuǐ huǒ  t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金木水火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1"/>
          <p:cNvSpPr/>
          <p:nvPr/>
        </p:nvSpPr>
        <p:spPr>
          <a:xfrm>
            <a:off x="2195640" y="824040"/>
            <a:ext cx="568944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.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我会填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 ）（ ）分上下，（ ）（ ）照古今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.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我会对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天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 ）        上            （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  ）            月           （ ）          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1" name="图片 2" descr=""/>
          <p:cNvPicPr/>
          <p:nvPr/>
        </p:nvPicPr>
        <p:blipFill>
          <a:blip r:embed="rId1"/>
          <a:stretch/>
        </p:blipFill>
        <p:spPr>
          <a:xfrm>
            <a:off x="422280" y="506520"/>
            <a:ext cx="2071800" cy="213336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3"/>
          <p:cNvSpPr/>
          <p:nvPr/>
        </p:nvSpPr>
        <p:spPr>
          <a:xfrm>
            <a:off x="1584360" y="42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练一练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左右箭头 5"/>
          <p:cNvSpPr/>
          <p:nvPr/>
        </p:nvSpPr>
        <p:spPr>
          <a:xfrm>
            <a:off x="5940360" y="2975040"/>
            <a:ext cx="908280" cy="17928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左右箭头 6"/>
          <p:cNvSpPr/>
          <p:nvPr/>
        </p:nvSpPr>
        <p:spPr>
          <a:xfrm>
            <a:off x="3122640" y="2955960"/>
            <a:ext cx="1006560" cy="216000"/>
          </a:xfrm>
          <a:prstGeom prst="leftRightArrow">
            <a:avLst>
              <a:gd name="adj1" fmla="val 50000"/>
              <a:gd name="adj2" fmla="val 49966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左右箭头 7"/>
          <p:cNvSpPr/>
          <p:nvPr/>
        </p:nvSpPr>
        <p:spPr>
          <a:xfrm>
            <a:off x="3133800" y="3571920"/>
            <a:ext cx="1008000" cy="212760"/>
          </a:xfrm>
          <a:prstGeom prst="leftRightArrow">
            <a:avLst>
              <a:gd name="adj1" fmla="val 50000"/>
              <a:gd name="adj2" fmla="val 4998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左右箭头 8"/>
          <p:cNvSpPr/>
          <p:nvPr/>
        </p:nvSpPr>
        <p:spPr>
          <a:xfrm>
            <a:off x="6033960" y="3589200"/>
            <a:ext cx="908280" cy="179640"/>
          </a:xfrm>
          <a:prstGeom prst="leftRightArrow">
            <a:avLst>
              <a:gd name="adj1" fmla="val 50000"/>
              <a:gd name="adj2" fmla="val 49929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7:14:44Z</dcterms:created>
  <dc:creator>Administrator</dc:creator>
  <dc:description/>
  <dc:language>en-US</dc:language>
  <cp:lastModifiedBy>万润仪器贸易公司</cp:lastModifiedBy>
  <dcterms:modified xsi:type="dcterms:W3CDTF">2020-08-24T01:36:18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